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9BA-9214-4099-A501-2E5B9167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7F8-1370-4C30-A3F9-2BD3D3FE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7A3-1096-41C0-ADDF-59783D90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FE1-778A-4D56-84D3-89B2A516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7D1-176B-438F-A9CC-962A180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B76-8BD5-46A3-97E2-CD832452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EC9-1F21-4B4A-BE25-232CC75B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48F-6B62-4CDB-85D9-B0C99F08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737-CD81-4E3A-A689-5F0AF10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F4D-E237-42A5-83E9-74A70FA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E5D-9087-468F-A1B3-5C76F983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825-96F4-4663-B34A-1E629BF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5519-CE2B-4655-9B81-4EE20D0AC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4.2: polynomial functions and models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graphs of polynom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nd graph piecewise define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, x-intercepts and turning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olynomial has a degree n, 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1, then it h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most, n x-inter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most, n-1 turning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 (page 2)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t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even and n ≥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gt;0.. The graph rises both to the left and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0… the graph falls both to the left and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81280" y="44863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400800" y="441000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 (page 3)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odd and n ≥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gt;0.. The graph falls to the left and rise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0… the graph rises to the left and fall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5812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What is the degree and what is the sign of a?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2398680"/>
            <a:ext cx="3962520" cy="378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243828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Evaluate and graph piecewise defined functions.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piecewise linear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very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: no breaks in th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: find the solution at the given value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f(x) = ?: solve for y at this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Evaluate and graph piecewise defined functions.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{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5 if 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x-1 if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-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1) i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t x= -1, 0, 1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f(x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338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68-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12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-80 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8:10:00Z</dcterms:created>
  <dc:creator>nuhs</dc:creator>
  <dc:description/>
  <dc:language>en-US</dc:language>
  <cp:lastModifiedBy>nuhs</cp:lastModifiedBy>
  <dcterms:modified xsi:type="dcterms:W3CDTF">2008-02-12T20:52:37Z</dcterms:modified>
  <cp:revision>5</cp:revision>
  <dc:subject/>
  <dc:title>4.2: polynomial functions and models</dc:title>
</cp:coreProperties>
</file>